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9A1-C2AD-4F0C-B110-CBDE565D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D8D-43DA-4C3A-95CD-1BCE7B69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136-D25B-4F7C-A85F-9092B61E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554-CAAA-4426-AE71-2D1DF36C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9584-52CD-4B43-BA34-D0B62BF0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31E3-F420-48EA-865F-0B5D38B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34B8-96A8-4B28-9E9A-343C9ED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77A-F5CE-4CC7-803B-63ECA68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311E-97AE-414E-9BAC-DB2CC7BE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2751-F3DA-46F0-9431-D350429D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82F2-BD3F-4447-9F2D-20844CB1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D7C-4CCF-4BA0-91D0-68049F2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419E-790B-4082-A794-BE41ECAF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17C1-7876-4128-AA7A-3433CF7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A89C-3F06-4441-86E2-D8D5DB20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7371-7580-46F9-8F4F-45196CBD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F10F-AC40-4420-8448-F3380314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3EF-2B55-4E23-8359-8D968F4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624-5522-442C-8566-0ED28555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659-B69F-465F-BD90-06B5150C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9A9-2706-40E1-BEE3-B48B7280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1EE-B767-4D29-B9A1-BF91365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ABE-99C5-4E3A-B079-63496FF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510-658F-4872-98B1-40E0B13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6FFB-CFD6-4DAF-904F-810C0BB17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4F7-0852-412E-BE39-5457D8F88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file:///../../Exemple%20de%20numere%20divizibile%20cu%202.doc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../../divizibilitate/div.4.doc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../divizibilitate/div.3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Divizibilitatea numerelor natur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Criterii de divizibili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c984"/>
                </a:solidFill>
                <a:latin typeface="Arial"/>
              </a:rPr>
              <a:t>I.Criterii care depind de </a:t>
            </a: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u</a:t>
            </a:r>
            <a:r>
              <a:rPr b="0" lang="en-US" sz="4000" spc="-1" strike="noStrike">
                <a:solidFill>
                  <a:srgbClr val="45c984"/>
                </a:solidFill>
                <a:latin typeface="Arial"/>
              </a:rPr>
              <a:t>ltima cifr</a:t>
            </a: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ă a numărulu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r>
              <a:rPr b="0" lang="ro-RO" sz="32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divizibil cu 2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şi numai dacă ultima sa cifră este 0,2,4,6 sau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1619280" y="24922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5 dacă şi numai dacă ultima sa cifr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0 sau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10 dacă şi numai dacă ultima sa cifră este 0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619360" cy="174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II.Criterii care depind de ultimele două cif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86d1ec"/>
                </a:solidFill>
                <a:latin typeface="Arial"/>
              </a:rPr>
              <a:t>Criteriul de divizibilitate cu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divizibil cu 4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acă şi numa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acă ultimele două cifre 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ale formează un număr divizibil cu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86d1ec"/>
                </a:solidFill>
                <a:latin typeface="Arial"/>
              </a:rPr>
              <a:t>Criteriul de divizibilitate cu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n număr natural este divizibil cu 25 dacă şi numai dacă ultimele două cifre ale sale formează un număr divizibil cu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651640" y="1700280"/>
            <a:ext cx="2857320" cy="1857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5c984"/>
                </a:solidFill>
                <a:latin typeface="Arial"/>
              </a:rPr>
              <a:t>III.Criterii care depind de suma cifrelor numărului natu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</a:t>
            </a:r>
            <a:r>
              <a:rPr b="0" lang="ro-RO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divizibil cu 3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dacă şi numai dacă suma cifrelor s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un număr divizibil cu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6d1ec"/>
                </a:solidFill>
                <a:latin typeface="Arial"/>
              </a:rPr>
              <a:t>Criteriul de divizibilitate cu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n număr natural este divizibil cu 9 dacă şi numai dacă suma cifrelor sale este un număr divizibil cu 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165564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4:36Z</dcterms:created>
  <dc:creator>cursant</dc:creator>
  <dc:description/>
  <dc:language>en-US</dc:language>
  <cp:lastModifiedBy>cursant</cp:lastModifiedBy>
  <dcterms:modified xsi:type="dcterms:W3CDTF">2010-09-02T08:19:19Z</dcterms:modified>
  <cp:revision>5</cp:revision>
  <dc:subject/>
  <dc:title> Divizibilitatea numerelor natu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